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33440" y="4847040"/>
            <a:ext cx="7872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6760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33440" y="484704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67600" y="484704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5280" y="236016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57120" y="236016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33440" y="484704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5280" y="484704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57120" y="4847040"/>
            <a:ext cx="25347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33440" y="2360160"/>
            <a:ext cx="7872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3841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67600" y="2360160"/>
            <a:ext cx="3841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12560" y="871560"/>
            <a:ext cx="78944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67600" y="2360160"/>
            <a:ext cx="3841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33440" y="484704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38415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6760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67600" y="484704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67600" y="2360160"/>
            <a:ext cx="38415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3440" y="4847040"/>
            <a:ext cx="7872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2280" y="90360"/>
            <a:ext cx="9428040" cy="7142400"/>
            <a:chOff x="422280" y="90360"/>
            <a:chExt cx="9428040" cy="7142400"/>
          </a:xfrm>
        </p:grpSpPr>
        <p:sp>
          <p:nvSpPr>
            <p:cNvPr id="1" name=""/>
            <p:cNvSpPr/>
            <p:nvPr/>
          </p:nvSpPr>
          <p:spPr>
            <a:xfrm>
              <a:off x="422280" y="663480"/>
              <a:ext cx="9018720" cy="656928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000000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15960" y="438120"/>
              <a:ext cx="9018720" cy="656928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0880" y="403200"/>
              <a:ext cx="9018720" cy="656928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87240" y="368280"/>
              <a:ext cx="9018720" cy="656892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23960" y="331920"/>
              <a:ext cx="9018360" cy="656892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8880" y="297000"/>
              <a:ext cx="9018360" cy="656892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5240" y="260280"/>
              <a:ext cx="9018720" cy="656928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1960" y="225360"/>
              <a:ext cx="9018360" cy="6569280"/>
            </a:xfrm>
            <a:custGeom>
              <a:avLst/>
              <a:gdLst/>
              <a:ahLst/>
              <a:rect l="l" t="t" r="r" b="b"/>
              <a:pathLst>
                <a:path w="25056" h="18250">
                  <a:moveTo>
                    <a:pt x="272" y="262"/>
                  </a:moveTo>
                  <a:cubicBezTo>
                    <a:pt x="8430" y="0"/>
                    <a:pt x="16083" y="524"/>
                    <a:pt x="24242" y="262"/>
                  </a:cubicBezTo>
                  <a:cubicBezTo>
                    <a:pt x="25055" y="6320"/>
                    <a:pt x="23815" y="12118"/>
                    <a:pt x="24242" y="17989"/>
                  </a:cubicBezTo>
                  <a:cubicBezTo>
                    <a:pt x="14763" y="18249"/>
                    <a:pt x="8585" y="17541"/>
                    <a:pt x="272" y="17989"/>
                  </a:cubicBezTo>
                  <a:cubicBezTo>
                    <a:pt x="0" y="11632"/>
                    <a:pt x="933" y="6695"/>
                    <a:pt x="272" y="262"/>
                  </a:cubicBezTo>
                </a:path>
              </a:pathLst>
            </a:custGeom>
            <a:solidFill>
              <a:srgbClr val="ffffff"/>
            </a:solidFill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47880" y="9036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3"/>
                    <a:pt x="772" y="0"/>
                    <a:pt x="388" y="227"/>
                  </a:cubicBezTo>
                  <a:cubicBezTo>
                    <a:pt x="284" y="289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9520" y="95400"/>
              <a:ext cx="457200" cy="317520"/>
            </a:xfrm>
            <a:custGeom>
              <a:avLst/>
              <a:gdLst/>
              <a:ahLst/>
              <a:rect l="l" t="t" r="r" b="b"/>
              <a:pathLst>
                <a:path w="1276" h="888">
                  <a:moveTo>
                    <a:pt x="771" y="887"/>
                  </a:moveTo>
                  <a:cubicBezTo>
                    <a:pt x="1275" y="33"/>
                    <a:pt x="771" y="0"/>
                    <a:pt x="388" y="227"/>
                  </a:cubicBezTo>
                  <a:cubicBezTo>
                    <a:pt x="284" y="290"/>
                    <a:pt x="5" y="628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811160" y="98280"/>
              <a:ext cx="45900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3"/>
                    <a:pt x="772" y="0"/>
                    <a:pt x="389" y="227"/>
                  </a:cubicBezTo>
                  <a:cubicBezTo>
                    <a:pt x="285" y="290"/>
                    <a:pt x="4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243160" y="103320"/>
              <a:ext cx="45864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2" y="887"/>
                  </a:moveTo>
                  <a:cubicBezTo>
                    <a:pt x="1277" y="33"/>
                    <a:pt x="773" y="0"/>
                    <a:pt x="390" y="227"/>
                  </a:cubicBezTo>
                  <a:cubicBezTo>
                    <a:pt x="286" y="289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674800" y="106200"/>
              <a:ext cx="45900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2" y="887"/>
                  </a:moveTo>
                  <a:cubicBezTo>
                    <a:pt x="1277" y="33"/>
                    <a:pt x="773" y="0"/>
                    <a:pt x="390" y="227"/>
                  </a:cubicBezTo>
                  <a:cubicBezTo>
                    <a:pt x="285" y="290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106800" y="10944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3"/>
                    <a:pt x="771" y="0"/>
                    <a:pt x="389" y="227"/>
                  </a:cubicBezTo>
                  <a:cubicBezTo>
                    <a:pt x="284" y="289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38440" y="114480"/>
              <a:ext cx="459000" cy="31716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2"/>
                    <a:pt x="772" y="0"/>
                    <a:pt x="389" y="227"/>
                  </a:cubicBezTo>
                  <a:cubicBezTo>
                    <a:pt x="283" y="289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71880" y="117360"/>
              <a:ext cx="45900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4"/>
                    <a:pt x="772" y="0"/>
                    <a:pt x="389" y="227"/>
                  </a:cubicBezTo>
                  <a:cubicBezTo>
                    <a:pt x="284" y="290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403880" y="122400"/>
              <a:ext cx="458640" cy="31716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4"/>
                    <a:pt x="771" y="0"/>
                    <a:pt x="389" y="227"/>
                  </a:cubicBezTo>
                  <a:cubicBezTo>
                    <a:pt x="284" y="289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35520" y="12528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3"/>
                    <a:pt x="771" y="0"/>
                    <a:pt x="389" y="227"/>
                  </a:cubicBezTo>
                  <a:cubicBezTo>
                    <a:pt x="284" y="290"/>
                    <a:pt x="4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267160" y="128520"/>
              <a:ext cx="45900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1" y="887"/>
                  </a:moveTo>
                  <a:cubicBezTo>
                    <a:pt x="1277" y="34"/>
                    <a:pt x="772" y="0"/>
                    <a:pt x="390" y="228"/>
                  </a:cubicBezTo>
                  <a:cubicBezTo>
                    <a:pt x="285" y="291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99160" y="13320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4"/>
                    <a:pt x="772" y="0"/>
                    <a:pt x="389" y="228"/>
                  </a:cubicBezTo>
                  <a:cubicBezTo>
                    <a:pt x="284" y="290"/>
                    <a:pt x="5" y="627"/>
                    <a:pt x="0" y="622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130800" y="136440"/>
              <a:ext cx="45900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1" y="887"/>
                  </a:moveTo>
                  <a:cubicBezTo>
                    <a:pt x="1277" y="34"/>
                    <a:pt x="772" y="0"/>
                    <a:pt x="390" y="229"/>
                  </a:cubicBezTo>
                  <a:cubicBezTo>
                    <a:pt x="284" y="291"/>
                    <a:pt x="6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562800" y="14112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4"/>
                    <a:pt x="771" y="0"/>
                    <a:pt x="388" y="228"/>
                  </a:cubicBezTo>
                  <a:cubicBezTo>
                    <a:pt x="283" y="291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994440" y="144360"/>
              <a:ext cx="45900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4"/>
                    <a:pt x="771" y="0"/>
                    <a:pt x="388" y="228"/>
                  </a:cubicBezTo>
                  <a:cubicBezTo>
                    <a:pt x="283" y="290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427880" y="147600"/>
              <a:ext cx="45900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4"/>
                    <a:pt x="771" y="0"/>
                    <a:pt x="388" y="228"/>
                  </a:cubicBezTo>
                  <a:cubicBezTo>
                    <a:pt x="284" y="291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859880" y="152280"/>
              <a:ext cx="45864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0" y="887"/>
                  </a:moveTo>
                  <a:cubicBezTo>
                    <a:pt x="1276" y="34"/>
                    <a:pt x="771" y="0"/>
                    <a:pt x="388" y="228"/>
                  </a:cubicBezTo>
                  <a:cubicBezTo>
                    <a:pt x="284" y="290"/>
                    <a:pt x="4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291520" y="155520"/>
              <a:ext cx="45864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1" y="887"/>
                  </a:moveTo>
                  <a:cubicBezTo>
                    <a:pt x="1277" y="34"/>
                    <a:pt x="772" y="0"/>
                    <a:pt x="389" y="228"/>
                  </a:cubicBezTo>
                  <a:cubicBezTo>
                    <a:pt x="285" y="290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23160" y="160200"/>
              <a:ext cx="459000" cy="317520"/>
            </a:xfrm>
            <a:custGeom>
              <a:avLst/>
              <a:gdLst/>
              <a:ahLst/>
              <a:rect l="l" t="t" r="r" b="b"/>
              <a:pathLst>
                <a:path w="1277" h="888">
                  <a:moveTo>
                    <a:pt x="771" y="887"/>
                  </a:moveTo>
                  <a:cubicBezTo>
                    <a:pt x="1276" y="34"/>
                    <a:pt x="772" y="0"/>
                    <a:pt x="388" y="228"/>
                  </a:cubicBezTo>
                  <a:cubicBezTo>
                    <a:pt x="284" y="291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55160" y="163440"/>
              <a:ext cx="458640" cy="317520"/>
            </a:xfrm>
            <a:custGeom>
              <a:avLst/>
              <a:gdLst/>
              <a:ahLst/>
              <a:rect l="l" t="t" r="r" b="b"/>
              <a:pathLst>
                <a:path w="1278" h="888">
                  <a:moveTo>
                    <a:pt x="771" y="887"/>
                  </a:moveTo>
                  <a:cubicBezTo>
                    <a:pt x="1277" y="34"/>
                    <a:pt x="772" y="0"/>
                    <a:pt x="388" y="228"/>
                  </a:cubicBezTo>
                  <a:cubicBezTo>
                    <a:pt x="284" y="290"/>
                    <a:pt x="5" y="628"/>
                    <a:pt x="0" y="623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172520" y="342000"/>
              <a:ext cx="8331480" cy="186120"/>
              <a:chOff x="1172520" y="342000"/>
              <a:chExt cx="8331480" cy="186120"/>
            </a:xfrm>
          </p:grpSpPr>
          <p:sp>
            <p:nvSpPr>
              <p:cNvPr id="30" name=""/>
              <p:cNvSpPr/>
              <p:nvPr/>
            </p:nvSpPr>
            <p:spPr>
              <a:xfrm rot="60000">
                <a:off x="1173240" y="342720"/>
                <a:ext cx="122040" cy="11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60000">
                <a:off x="1604880" y="34560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60000">
                <a:off x="2036880" y="350640"/>
                <a:ext cx="122040" cy="110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60000">
                <a:off x="2468520" y="35352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60000">
                <a:off x="2900520" y="35676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60000">
                <a:off x="3332160" y="36144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60000">
                <a:off x="3763800" y="36468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60000">
                <a:off x="4195800" y="36936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60000">
                <a:off x="4629240" y="37260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60000">
                <a:off x="5059440" y="37584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60000">
                <a:off x="5492880" y="38052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0000">
                <a:off x="5924520" y="38376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60000">
                <a:off x="6356520" y="38844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60000">
                <a:off x="6788160" y="39168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60000">
                <a:off x="7219800" y="39636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60000">
                <a:off x="7651800" y="39960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60000">
                <a:off x="8083440" y="40428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60000">
                <a:off x="8515440" y="40752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60000">
                <a:off x="8948880" y="410760"/>
                <a:ext cx="12204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60000">
                <a:off x="9380520" y="415440"/>
                <a:ext cx="122400" cy="111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011240" y="90360"/>
              <a:ext cx="393840" cy="317520"/>
            </a:xfrm>
            <a:custGeom>
              <a:avLst/>
              <a:gdLst/>
              <a:ahLst/>
              <a:rect l="l" t="t" r="r" b="b"/>
              <a:pathLst>
                <a:path w="1098" h="888">
                  <a:moveTo>
                    <a:pt x="592" y="887"/>
                  </a:moveTo>
                  <a:cubicBezTo>
                    <a:pt x="1097" y="33"/>
                    <a:pt x="593" y="0"/>
                    <a:pt x="209" y="227"/>
                  </a:cubicBezTo>
                  <a:cubicBezTo>
                    <a:pt x="105" y="289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4680" y="95400"/>
              <a:ext cx="39348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2" y="887"/>
                  </a:moveTo>
                  <a:cubicBezTo>
                    <a:pt x="1096" y="33"/>
                    <a:pt x="592" y="0"/>
                    <a:pt x="209" y="227"/>
                  </a:cubicBezTo>
                  <a:cubicBezTo>
                    <a:pt x="105" y="290"/>
                    <a:pt x="18" y="405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6320" y="98280"/>
              <a:ext cx="39384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90" y="887"/>
                  </a:moveTo>
                  <a:cubicBezTo>
                    <a:pt x="1095" y="33"/>
                    <a:pt x="591" y="0"/>
                    <a:pt x="208" y="227"/>
                  </a:cubicBezTo>
                  <a:cubicBezTo>
                    <a:pt x="104" y="290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08320" y="103320"/>
              <a:ext cx="39348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90" y="887"/>
                  </a:moveTo>
                  <a:cubicBezTo>
                    <a:pt x="1095" y="33"/>
                    <a:pt x="591" y="0"/>
                    <a:pt x="208" y="227"/>
                  </a:cubicBezTo>
                  <a:cubicBezTo>
                    <a:pt x="104" y="289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39960" y="106200"/>
              <a:ext cx="39384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90" y="887"/>
                  </a:moveTo>
                  <a:cubicBezTo>
                    <a:pt x="1095" y="33"/>
                    <a:pt x="591" y="0"/>
                    <a:pt x="208" y="227"/>
                  </a:cubicBezTo>
                  <a:cubicBezTo>
                    <a:pt x="103" y="290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71960" y="109440"/>
              <a:ext cx="39348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90" y="887"/>
                  </a:moveTo>
                  <a:cubicBezTo>
                    <a:pt x="1095" y="33"/>
                    <a:pt x="590" y="0"/>
                    <a:pt x="208" y="227"/>
                  </a:cubicBezTo>
                  <a:cubicBezTo>
                    <a:pt x="103" y="289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03600" y="114480"/>
              <a:ext cx="393840" cy="31716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90" y="887"/>
                  </a:moveTo>
                  <a:cubicBezTo>
                    <a:pt x="1095" y="32"/>
                    <a:pt x="591" y="0"/>
                    <a:pt x="208" y="227"/>
                  </a:cubicBezTo>
                  <a:cubicBezTo>
                    <a:pt x="102" y="289"/>
                    <a:pt x="17" y="404"/>
                    <a:pt x="0" y="455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35600" y="117360"/>
              <a:ext cx="39348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4"/>
                    <a:pt x="592" y="0"/>
                    <a:pt x="209" y="227"/>
                  </a:cubicBezTo>
                  <a:cubicBezTo>
                    <a:pt x="104" y="290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67240" y="122400"/>
              <a:ext cx="393840" cy="31716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1" y="887"/>
                  </a:moveTo>
                  <a:cubicBezTo>
                    <a:pt x="1096" y="34"/>
                    <a:pt x="591" y="0"/>
                    <a:pt x="209" y="227"/>
                  </a:cubicBezTo>
                  <a:cubicBezTo>
                    <a:pt x="104" y="289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00680" y="125280"/>
              <a:ext cx="39348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3"/>
                    <a:pt x="591" y="0"/>
                    <a:pt x="209" y="227"/>
                  </a:cubicBezTo>
                  <a:cubicBezTo>
                    <a:pt x="104" y="290"/>
                    <a:pt x="18" y="404"/>
                    <a:pt x="0" y="455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128520"/>
              <a:ext cx="39384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89" y="887"/>
                  </a:moveTo>
                  <a:cubicBezTo>
                    <a:pt x="1095" y="34"/>
                    <a:pt x="590" y="0"/>
                    <a:pt x="208" y="228"/>
                  </a:cubicBezTo>
                  <a:cubicBezTo>
                    <a:pt x="103" y="291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4320" y="133200"/>
              <a:ext cx="392040" cy="317520"/>
            </a:xfrm>
            <a:custGeom>
              <a:avLst/>
              <a:gdLst/>
              <a:ahLst/>
              <a:rect l="l" t="t" r="r" b="b"/>
              <a:pathLst>
                <a:path w="1095" h="888">
                  <a:moveTo>
                    <a:pt x="589" y="887"/>
                  </a:moveTo>
                  <a:cubicBezTo>
                    <a:pt x="1094" y="34"/>
                    <a:pt x="590" y="0"/>
                    <a:pt x="207" y="228"/>
                  </a:cubicBezTo>
                  <a:cubicBezTo>
                    <a:pt x="102" y="290"/>
                    <a:pt x="17" y="403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95960" y="136440"/>
              <a:ext cx="39384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89" y="887"/>
                  </a:moveTo>
                  <a:cubicBezTo>
                    <a:pt x="1095" y="34"/>
                    <a:pt x="590" y="0"/>
                    <a:pt x="208" y="229"/>
                  </a:cubicBezTo>
                  <a:cubicBezTo>
                    <a:pt x="102" y="291"/>
                    <a:pt x="17" y="405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7960" y="141120"/>
              <a:ext cx="39348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89" y="887"/>
                  </a:moveTo>
                  <a:cubicBezTo>
                    <a:pt x="1095" y="34"/>
                    <a:pt x="590" y="0"/>
                    <a:pt x="207" y="228"/>
                  </a:cubicBezTo>
                  <a:cubicBezTo>
                    <a:pt x="102" y="291"/>
                    <a:pt x="16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59600" y="144360"/>
              <a:ext cx="39384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4"/>
                    <a:pt x="591" y="0"/>
                    <a:pt x="208" y="228"/>
                  </a:cubicBezTo>
                  <a:cubicBezTo>
                    <a:pt x="103" y="290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91240" y="147600"/>
              <a:ext cx="39384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4"/>
                    <a:pt x="591" y="0"/>
                    <a:pt x="208" y="228"/>
                  </a:cubicBezTo>
                  <a:cubicBezTo>
                    <a:pt x="104" y="291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3240" y="152280"/>
              <a:ext cx="39384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4"/>
                    <a:pt x="591" y="0"/>
                    <a:pt x="208" y="228"/>
                  </a:cubicBezTo>
                  <a:cubicBezTo>
                    <a:pt x="104" y="290"/>
                    <a:pt x="18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56680" y="155520"/>
              <a:ext cx="393480" cy="317520"/>
            </a:xfrm>
            <a:custGeom>
              <a:avLst/>
              <a:gdLst/>
              <a:ahLst/>
              <a:rect l="l" t="t" r="r" b="b"/>
              <a:pathLst>
                <a:path w="1097" h="888">
                  <a:moveTo>
                    <a:pt x="590" y="887"/>
                  </a:moveTo>
                  <a:cubicBezTo>
                    <a:pt x="1096" y="34"/>
                    <a:pt x="591" y="0"/>
                    <a:pt x="208" y="228"/>
                  </a:cubicBezTo>
                  <a:cubicBezTo>
                    <a:pt x="104" y="290"/>
                    <a:pt x="18" y="404"/>
                    <a:pt x="0" y="455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88320" y="160200"/>
              <a:ext cx="392040" cy="317520"/>
            </a:xfrm>
            <a:custGeom>
              <a:avLst/>
              <a:gdLst/>
              <a:ahLst/>
              <a:rect l="l" t="t" r="r" b="b"/>
              <a:pathLst>
                <a:path w="1095" h="888">
                  <a:moveTo>
                    <a:pt x="589" y="887"/>
                  </a:moveTo>
                  <a:cubicBezTo>
                    <a:pt x="1094" y="34"/>
                    <a:pt x="590" y="0"/>
                    <a:pt x="206" y="228"/>
                  </a:cubicBezTo>
                  <a:cubicBezTo>
                    <a:pt x="102" y="291"/>
                    <a:pt x="17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220320" y="163440"/>
              <a:ext cx="393480" cy="317520"/>
            </a:xfrm>
            <a:custGeom>
              <a:avLst/>
              <a:gdLst/>
              <a:ahLst/>
              <a:rect l="l" t="t" r="r" b="b"/>
              <a:pathLst>
                <a:path w="1096" h="888">
                  <a:moveTo>
                    <a:pt x="589" y="887"/>
                  </a:moveTo>
                  <a:cubicBezTo>
                    <a:pt x="1095" y="34"/>
                    <a:pt x="590" y="0"/>
                    <a:pt x="206" y="228"/>
                  </a:cubicBezTo>
                  <a:cubicBezTo>
                    <a:pt x="102" y="290"/>
                    <a:pt x="16" y="404"/>
                    <a:pt x="0" y="456"/>
                  </a:cubicBezTo>
                </a:path>
              </a:pathLst>
            </a:custGeom>
            <a:noFill/>
            <a:ln w="720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38240" y="684360"/>
              <a:ext cx="1633680" cy="439560"/>
            </a:xfrm>
            <a:prstGeom prst="roundRect">
              <a:avLst>
                <a:gd name="adj" fmla="val 3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;Helvetica"/>
              </a:rPr>
              <a:t>Click to edit the title text format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333440" y="2360160"/>
            <a:ext cx="7872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2" marL="107964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3" marL="1366920" indent="-43200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4" marL="1655640" indent="-431640">
              <a:spcAft>
                <a:spcPts val="1412"/>
              </a:spcAft>
              <a:buClr>
                <a:srgbClr val="000080"/>
              </a:buClr>
              <a:buSzPct val="75000"/>
              <a:buFont typeface="StarBats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5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6" marL="1655640" indent="-43164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;Times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rner.van.belle@vub.ac.be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12560" y="1595160"/>
            <a:ext cx="789444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Concurrency Guarding &amp; Error Resolution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0" name=""/>
          <p:cNvSpPr/>
          <p:nvPr/>
        </p:nvSpPr>
        <p:spPr>
          <a:xfrm>
            <a:off x="1349280" y="4817520"/>
            <a:ext cx="78724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31640" indent="-215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hor: Werner Van 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erner.van.belle@vub.ac.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artement Informatica (Din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1840" y="3505680"/>
            <a:ext cx="7894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80"/>
                </a:solidFill>
                <a:latin typeface="Arial;Helvetica"/>
              </a:rPr>
              <a:t>Genetic Program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Gene Mixing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Corssover = rule mixing of good working program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Strategy: unknown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Introducing new rules ?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Exploration/Exploitaion: unknown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Partial Failure ?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45" name=""/>
          <p:cNvSpPr/>
          <p:nvPr/>
        </p:nvSpPr>
        <p:spPr>
          <a:xfrm>
            <a:off x="4965840" y="2792520"/>
            <a:ext cx="2936880" cy="2482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4680" y="3537000"/>
            <a:ext cx="792000" cy="7840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30800" y="1959120"/>
            <a:ext cx="839880" cy="637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29760" y="3544920"/>
            <a:ext cx="703080" cy="824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7440" y="5567400"/>
            <a:ext cx="896760" cy="8078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8100000">
            <a:off x="4079520" y="253224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7806960" y="546552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700000">
            <a:off x="4345560" y="5396400"/>
            <a:ext cx="100944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00000">
            <a:off x="7837920" y="2638800"/>
            <a:ext cx="1009800" cy="55440"/>
          </a:xfrm>
          <a:prstGeom prst="roundRect">
            <a:avLst>
              <a:gd name="adj" fmla="val 2778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432240" y="3200400"/>
            <a:ext cx="2936880" cy="1035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Error-handling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775320"/>
            <a:ext cx="2936880" cy="517320"/>
          </a:xfrm>
          <a:prstGeom prst="ellipse">
            <a:avLst/>
          </a:prstGeom>
          <a:solidFill>
            <a:srgbClr val="00b8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5040" y="3670200"/>
            <a:ext cx="79236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51520" y="2018880"/>
            <a:ext cx="83952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50120" y="3698280"/>
            <a:ext cx="70344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86360" y="5712120"/>
            <a:ext cx="89676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8100000">
            <a:off x="2999880" y="253224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8900000">
            <a:off x="6727320" y="546552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700000">
            <a:off x="3265920" y="5396400"/>
            <a:ext cx="100944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3500000">
            <a:off x="6758640" y="263880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8100000">
            <a:off x="2676600" y="2839680"/>
            <a:ext cx="100944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8100000">
            <a:off x="2854080" y="2693520"/>
            <a:ext cx="1009440" cy="5580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8100000">
            <a:off x="3112560" y="238608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3500000">
            <a:off x="6638040" y="2494440"/>
            <a:ext cx="1009440" cy="5580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8900000">
            <a:off x="6865920" y="5328720"/>
            <a:ext cx="1009800" cy="5580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700000">
            <a:off x="3451680" y="5501160"/>
            <a:ext cx="100944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7960" y="5559840"/>
            <a:ext cx="89712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3560" y="4519440"/>
            <a:ext cx="79236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49680" y="2189160"/>
            <a:ext cx="83988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46680" y="2408400"/>
            <a:ext cx="83988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22960" y="2994840"/>
            <a:ext cx="703440" cy="517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Error resolution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33440" y="207288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Creationg of testset = find agents which may not fail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Program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Cloning with Version # 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Timout, selection of target-agent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History resend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Fitness: speed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Experiments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Concurrency Guarding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Sequence simulation of running agents (+)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Creation of testset (+/-)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Creation of programs (-)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Crossover ? (-)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Error Guarding (-)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Isn't this rather fluffy?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3440" y="2360520"/>
            <a:ext cx="787248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90 % van de programmeurs is niet in staat concurrentie/error handling correct te implementeren.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Programs which works 98 % of the time ? 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Redesign = reimplement = lots of time = money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Result = non-optimal speed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Peer 2 peer Computing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3440" y="2360520"/>
            <a:ext cx="7872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Agent, Multi-Agent, Mobile Multi-Agent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Open distributed system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No clear goals/computation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Concurrency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5" name=""/>
          <p:cNvSpPr/>
          <p:nvPr/>
        </p:nvSpPr>
        <p:spPr>
          <a:xfrm>
            <a:off x="4965840" y="2792520"/>
            <a:ext cx="2936880" cy="2482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4680" y="3537000"/>
            <a:ext cx="792000" cy="78408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0" y="1959120"/>
            <a:ext cx="839880" cy="637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29760" y="3544920"/>
            <a:ext cx="703080" cy="824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7440" y="5567400"/>
            <a:ext cx="896760" cy="8078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8100000">
            <a:off x="4079520" y="253224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900000">
            <a:off x="7806960" y="546552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700000">
            <a:off x="4345560" y="5396400"/>
            <a:ext cx="100944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3500000">
            <a:off x="7837920" y="2638800"/>
            <a:ext cx="1009800" cy="55440"/>
          </a:xfrm>
          <a:prstGeom prst="roundRect">
            <a:avLst>
              <a:gd name="adj" fmla="val 2778"/>
            </a:avLst>
          </a:prstGeom>
          <a:solidFill>
            <a:srgbClr val="944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78080" y="3909960"/>
            <a:ext cx="6066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8000" y="4564080"/>
            <a:ext cx="173196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36920" y="5616360"/>
            <a:ext cx="114948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5120" y="3759120"/>
            <a:ext cx="101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Filos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62480" y="5097600"/>
            <a:ext cx="64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Ta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3840" y="580248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;Times"/>
              </a:rPr>
              <a:t>V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000" spc="-1" strike="noStrike">
                <a:solidFill>
                  <a:srgbClr val="000080"/>
                </a:solidFill>
                <a:latin typeface="Arial;Helvetica"/>
              </a:rPr>
              <a:t>GP: Setup</a:t>
            </a:r>
            <a:endParaRPr b="0" i="1" lang="en-US" sz="40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3440" y="218088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We want to create an environment,  which favours programs with little or no concurrency failures.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A concurrency failure i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A deadlock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Unwanted behaviour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Requirements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Describe all actors: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Incoming -&gt; Outgoing messages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Describe Required Behaviour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Message A, B, C are start messages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Creating Test Set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Simulate program by interleaving message sequence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Remember all failure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503280" indent="-43200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These failures are the TestSet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Simulation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Run different concurrency guardin programs, together with their agents and see how good they act in the testset environment.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12560" y="871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Fitness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3440" y="2360160"/>
            <a:ext cx="78724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f(A) depends on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number of incorrect concurrency stragtegies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90560" indent="-4316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Times New Roman;Times"/>
              </a:rPr>
              <a:t>time to run</a:t>
            </a:r>
            <a:endParaRPr b="0" lang="en-US" sz="28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12560" y="547560"/>
            <a:ext cx="789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en-GB" sz="4400" spc="-1" strike="noStrike">
                <a:solidFill>
                  <a:srgbClr val="000080"/>
                </a:solidFill>
                <a:latin typeface="Arial;Helvetica"/>
              </a:rPr>
              <a:t>GP: Programs</a:t>
            </a:r>
            <a:endParaRPr b="0" i="1" lang="en-US" sz="44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33440" y="1568160"/>
            <a:ext cx="787248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78080" indent="-410400"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Program = set of rules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marL="478080" indent="-41040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Precondiction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Incoming Q 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Outgoing Q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History of message (Stack)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  <a:p>
            <a:pPr marL="478080" indent="-41040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;Times"/>
              </a:rPr>
              <a:t>Action:</a:t>
            </a:r>
            <a:endParaRPr b="0" lang="en-US" sz="32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Send message to X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Remain in Q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  <a:p>
            <a:pPr lvl="1" marL="750960" indent="-410040">
              <a:spcAft>
                <a:spcPts val="1125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Times New Roman;Times"/>
              </a:rPr>
              <a:t>Remove Message</a:t>
            </a:r>
            <a:endParaRPr b="0" lang="en-US" sz="2600" spc="-1" strike="noStrike">
              <a:solidFill>
                <a:srgbClr val="333333"/>
              </a:solidFill>
              <a:latin typeface="Times New Roman;Time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7:14:24Z</dcterms:created>
  <dc:creator>Werner Van Belle</dc:creator>
  <dc:description>General meeting with brainstorming</dc:description>
  <dc:language>en-US</dc:language>
  <cp:lastModifiedBy>Werner Van Belle</cp:lastModifiedBy>
  <cp:revision>0</cp:revision>
  <dc:subject/>
  <dc:title>Brainstorming</dc:title>
</cp:coreProperties>
</file>